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804-B9E5-407E-9931-1F1A2DA6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73B-8DA4-45B6-A677-D187276D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6D7-ACC6-4E27-88F5-8D0D4CBC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CAD-FEDB-4B07-8BDB-C748C63E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65E-A47F-45DE-B738-3A5DB881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039-ED31-4467-9F25-C6EB17C2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A9A-9B4D-4224-A262-4FFBD63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B31-3B10-4FF5-BC16-FCB90FA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F2E-3AC7-4686-AEA2-7AC3489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6B5-2F94-4486-959D-00EC740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F0C-F264-4516-8BC1-9690EA0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2E4-3C2B-4AC8-97C4-BFAB3E7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AE2F-C3DB-43A0-ABE7-C6896A028E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Land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Always Tougher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, Alexander Cox &amp; Anthony 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: Problems and Solu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 Climate: Very cold clim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s rivers to freeze and permafrost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ng Of Fire: a large ring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canoes on the Kamchatka  Penins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frost : a frost that form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inter months and st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ly till Summer preven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 and m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e Bre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architecture (pili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ts3.mm.bing.net/images/thumbnail.aspx?q=333383410654&amp;id=29c8f3b948c2b7254918f2c4622045b1&amp;index=ch1"/>
          <p:cNvPicPr/>
          <p:nvPr/>
        </p:nvPicPr>
        <p:blipFill>
          <a:blip r:embed="rId1"/>
          <a:srcRect l="0" t="0" r="-1323" b="9800"/>
          <a:stretch/>
        </p:blipFill>
        <p:spPr>
          <a:xfrm>
            <a:off x="5791320" y="2286000"/>
            <a:ext cx="28954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forms Of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physical-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ndforms: Mountains, Plateaus &amp; Pl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l Mountains: The mountain rage that is the border of Asia &amp; Europe. Elevation: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casus Mountains: The mountain rage separating Russia and South East Asia. Mt. Elbrus: 5642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European Plains: The Large plain west of the Ural Mou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S910219680[1].wav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61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nd Forms: Mountains, Plateaus &amp; Plains Continu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 Siberian Plain: The large plain just West of the Central Siberian Penins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Siberian Plateau: a huge plateau in the center of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other mountain ranges in Russia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an Mts., Yablonovyy Range, Stanovoy Range, Verkhoyansk Range, &amp; Kolyma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Forms: Bodies of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lyma River             Lake Baik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nisey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lga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n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rtysh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na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ur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ral Riv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MS910220019[1].wav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30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Alex</dc:creator>
  <dc:description/>
  <dc:language>en-US</dc:language>
  <cp:lastModifiedBy>Alex</cp:lastModifiedBy>
  <dcterms:modified xsi:type="dcterms:W3CDTF">2010-12-16T00:14:49Z</dcterms:modified>
  <cp:revision>12</cp:revision>
  <dc:subject/>
  <dc:title>The Land is Always Tougher In Russia</dc:title>
</cp:coreProperties>
</file>